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D8E-8A7E-4ED8-A9A0-0644B4F4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8DF-3ACE-42ED-A175-751DCBE8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5A3-BE2B-447D-8A35-61F71368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51A-CA61-4786-9745-F1BFF45B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16F03-5DF7-4B2C-8E55-6A515C52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8D24A-5283-4E03-B047-AF311CDF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FDD21-7FCD-414F-A809-C1A967D0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AD0AE-A9D7-43BA-A101-112EEFA5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DF6F3-CCBC-4D1D-AFCE-14D17EE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5FC68-80CF-4357-A215-DCE06B3C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68D79-ADDF-4C09-9AB3-20670592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603-E889-4688-B8C1-3D89C9AB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75EF4-DE56-4DA4-9AB0-C2847B9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CBA06-784C-41A9-92DB-57939FC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A82AC-79E2-4656-8FC6-E44F9DF0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6E261-9950-46C5-9A56-E812F6FD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64EF0-EB7B-495B-8BF9-6C56BDD2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8FC-3F6E-48E5-B804-BAC6BEA3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953-12F0-4500-B74E-8470904D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176-664E-4D7C-BC51-EE5F57F3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2B6-49E5-4682-9D88-580DD161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30D-E688-4FB8-993A-0D96A71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914-6325-42DF-B7B4-A0254C6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F9B-ED56-4A0A-8B73-08296669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02DD-0848-40DD-B96A-5895C5B3AB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6A7D-3CDC-46A7-9EF9-F474FF62E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Kristen ITC"/>
              </a:rPr>
              <a:t>Wild Mammal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By: Morgan C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0" y="4191120"/>
            <a:ext cx="4495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20:02:47Z</dcterms:created>
  <dc:creator>mostrander</dc:creator>
  <dc:description/>
  <dc:language>en-US</dc:language>
  <cp:lastModifiedBy>mostrander</cp:lastModifiedBy>
  <dcterms:modified xsi:type="dcterms:W3CDTF">2007-10-12T20:13:35Z</dcterms:modified>
  <cp:revision>2</cp:revision>
  <dc:subject/>
  <dc:title>Wild Mammals</dc:title>
</cp:coreProperties>
</file>